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6D4-4CB9-4CCC-A201-65566A22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96B-463F-4BBC-9259-4549F420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4256-8265-4325-AB3A-F47C46B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58ED7-D353-40AD-B6C9-FF8991E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3E3EF-8644-49DA-810E-029EDF0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DD985-100E-49D5-B0DE-BA603F2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66C4-1919-438F-8F10-BA6DDD3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D109D-6820-410F-9E9D-A749240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43648-3FCE-414C-AF51-E398816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91F94-6DFB-47E1-8474-DA0CE73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F6F36-590E-4672-9F4F-A103A5B6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6E5A4-1354-4658-8000-311DDCEF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871-6E2C-4D12-9CDA-58B1493C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2669-F802-45A7-BC41-192A9974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1D2C5-D149-437D-8156-743D784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3FF1A-3C98-46D5-A516-047C6DF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C939C-B63E-4A77-990A-6C702BB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541D-0C59-43D8-B400-575E025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B8C5-9B78-4AA5-B0A6-5322F554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6A82B-424D-4309-9DF8-922BE20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59DDB-D6E0-4125-9995-7509577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03F4-A74B-4BF8-A4ED-A4A241BD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4E49D-97FF-41A4-AA86-D513128C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139-2C35-43FF-9965-10DD16A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974FD-752A-40BE-B3AD-3CDDF3C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3EDD28-D3F9-49FC-BF53-CBAB5B82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38F8FE-F96C-4CC2-AD6F-4D96341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894E8-0569-4A15-AF3A-18749105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F0BBBF-EA89-47AD-99AA-FE33676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DD9D44-6C7A-47DD-957D-63DC11E2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5C5FD4-74D3-4EE2-9D23-EF8179C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E00CAF-6ED6-472A-868E-02D0EF3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D3855A-1E07-40AD-AE08-79DD254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F95820-A85C-4B79-97B5-D13C821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4884-F74F-4D33-A4E4-F731E71F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D7F75-2DB2-4A08-A9AC-710F0D05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4B67F-A8B8-4A55-A708-62684FE0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41ACCD-A051-4305-8813-784A0DA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4A3AD-6341-4C84-9306-140732D0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23F7E-7F88-4752-8E50-8B3C6BBF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AF368-27EA-4EFC-A2A9-C302A790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F7B41-1ED2-40A3-96A1-375ACBA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12EFB-A875-4097-8A41-C9A0FBA6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2F391-D7F4-4576-9899-F4E6578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45127-64AA-4BE8-B71C-3F6D35A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B3B0-F881-407E-BB0C-B20B554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916B8-6ACE-45BB-8F9A-B3008D4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64760-C104-4924-8C8E-4893FD2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33886-8704-40B5-86A9-7E4D58C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7A829-27C8-46FA-97EE-BF3F0C25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2721A-3C12-44E1-B816-3B960BF4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4B623-CE1D-44BB-869D-9CB5C8D9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D87E0-D3E6-408C-9259-1BBB88D1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E7EFA-24CB-4CFD-9F4B-63444B5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FCBB5-2B89-449E-BA5C-E9F8E4E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3643D-AF91-4F1B-A444-BDB08CBD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C21-B3DD-42A6-B9E1-FE5BF36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927DB-7011-424E-A6C2-0637815A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FB014-7D31-43A8-875B-7941DA3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D497D-003D-40E5-819D-33958EB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D3C49-0D6B-4AAC-8EA9-801A2E5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C07BB-CB78-4024-9F74-DE9E0DD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5CB72-918E-49E0-BC1B-C6541FE3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FCD44-D619-4209-9772-C5315CD0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DC306-8698-45B6-98DC-C9552A5F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25F44-DD65-4194-818F-F8A0BF8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1A38A-E235-444F-B314-1CF70521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E77F-F734-437F-B145-31B589BA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1B754-0048-4EFB-98AF-EBCE9A80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0E916-0326-4D51-97CC-F17E3EB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76046-696A-467C-8B7B-B1F9529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1211E-6DB2-4A80-9204-3D48FBF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EFC6F-5C35-4CD2-93EA-647485F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BFB25-0CF2-492E-9A29-6F1C565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24B88-9F7A-4AC2-A0C4-1C15669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2A656-E12A-4C2E-8F53-906C9983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A6449-4D0A-40AE-84B2-22F6FD1B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8D08B-21DF-4A25-8F97-8A459263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5A3F-5A8C-4BEB-972A-84FFFB7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D5DC-71C4-4C00-BAFF-012A571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1CE4D-F399-43FB-919D-3D94DC4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96F34-B857-4CD1-A181-4A94BAE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CD411-C84C-44EB-96B6-2DF8DD9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7CB60-97F1-4F3B-A9C0-2E95A3D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C3127-9B1C-4DA7-B25E-7305C81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98086-4D76-4536-AA5F-752129ED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1D3A9-6CFC-4AFA-A936-5E72A28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82545-CA1E-4DF4-AA78-5ACEE8C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BE04D-8BCE-4D20-865C-E4E80B4A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E59-3E23-447D-9086-93D389F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15292-598B-491F-8AD3-111B5AF1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EBBFC-A1F4-4B69-834B-B7E8842B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DE08F-759E-44DB-A708-24AD3B3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F729B-EE2E-4A0E-80AA-EF18F425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188E2-27E8-4B1A-9BD5-1A1C2408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7767B-C7D1-4B26-B9B9-A4B49BB0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ABF55-36FB-4D73-A399-3BE8E93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8798C-CDA9-4753-B798-242CA8B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F2AA6-AD46-4620-B824-BD466DB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CFD5E-289B-4CE1-AD19-C170534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C49-76D0-4C2E-A96F-FFDAE8B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5E251-DD50-4EC7-972F-022805C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53555-E1C7-49BA-9099-D3165A8A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5AB0C-0D16-41E0-A5DF-CB8595D5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A03-CDC0-4DB7-9AFB-4D41CE5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BC7-716B-491E-B38D-1D8EABC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88B0-0A39-41BA-B2E3-E4B9655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724-D4C0-4748-BECA-3D75BF34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F8FC-8A33-4CA5-8511-13B0A970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692-935F-4086-BC8E-36DE22A7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E7BE-15B8-4BE8-B0E7-F2E27787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6951-5D6D-4533-A10A-399B932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32EA-5BB7-4D44-BBC8-A888A19F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8016-8DEC-4EB3-8883-C2D69D6E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78B9-69C1-4562-8574-909501B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74D-3403-4899-B5E4-7AECBEFE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DE17-A465-4F28-97C3-48BD0FD0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E97A-0969-4AD6-B723-9C73888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5A31-5C3C-465A-98A3-89DA8B1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0D98-A3C7-4CAE-B60A-EFCBEE7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57C4-037E-4409-8A06-BDA84B9C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2BF6-1428-4AA7-A370-716EB239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7453-C03A-4317-B389-1234B57B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ED12-B5C8-4B1B-BAC1-46410B7B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2194-C083-4BD1-8029-1752CE3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1584-048A-49D8-AB1D-9EB4564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A13-8BC1-4DAA-9559-50743A6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449F-7A2B-45E0-8535-5D550051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FFF7-758B-4467-AE84-1123936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4549-A7CD-47C7-B7E8-438772E2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A748-07CF-4DE3-B55E-4606C98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E758-BFD3-4D64-BE6B-3A0865A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5ADC-8795-4428-886D-942E2256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8392-9733-440E-BE67-577C43EC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4D63-BF59-416E-B51D-78ADB775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56F6-35BB-40B3-918F-223EAA65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A7E4-F40D-4D1C-975A-0948FEE6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416-76EC-40B5-8199-6DB59CD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C998-98E7-4C60-9F0C-7B3B0033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3A83-AD59-42BB-AF02-652DA63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BA21-23AB-4658-8819-2D98EBAE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CEE1-6BD5-483F-ACD4-319AAA22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AB88-CCFB-4DBA-B2C7-9EBF1FE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D639-4C6E-421B-B8B1-92E8C25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F60F9-EF41-442E-B920-400F707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300F-5534-4233-9D3F-3855631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C52E-962D-4CD7-A74A-EE6B1EB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6677-4639-43A4-9402-867D5B59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E12-8B40-4544-B69B-3138D23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2AE2-99F8-401E-B55C-4DA618A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F1E3C-2915-4FCC-B2DF-8BD99A80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4C3C-0C4A-41CA-9971-4BA46D94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14C4-0ADC-4B1F-99D8-AB8BA69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57C9C-FC4B-4526-980A-114ECAD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EDB3-CD0B-409A-AB4B-3EBBF88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6E74D-8AE7-49A1-8C56-C24DE07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CA43-234D-4728-AF8C-93F5855F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9E07-36DB-43E9-A43F-1BB3BE0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E632-1361-4B06-9D1F-0FBBFEC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70C-8F74-4CAB-8A32-1C869AB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E933-C52C-4DC5-9F18-F6D62AB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A461-3B68-4DE2-A0CA-A648D41B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5629-7002-4B1B-9FCD-7EF791C1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D05E-48DA-42A7-9833-32215AC9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3160A-6719-4AF3-B265-83DCA33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489C8-2FF9-4559-9C61-E987891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EFE5-F5CF-4E9A-88F2-3A30CE5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94AF-ED58-433B-A2F9-802FE76A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BC55-C599-4A56-B0E7-750BCEE1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3FBC-FAD7-47EE-A1B9-93555AF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EC8-F80F-4FCB-AB9C-9D9466D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26DC-11C0-4AAA-A491-133EEFA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538B-9DD8-4F6A-879E-5D52FB5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EA0F-430C-4E5A-9AD0-94C77BA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6AA8-63CB-4232-BC80-CE238A41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725FE-7605-4FEA-941B-D378FC49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5B1CA-76A0-42CE-A338-A6498B4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95D4-57F4-4C05-9417-7312A1D8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F850-767B-4CDE-A2FE-EC4BF034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FCC0-3B39-4C9E-B41D-8A92DABA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15434-592B-4B77-8BD7-9FA59EC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306-E1AB-4A18-A0CB-D1A1644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6368C-BD8C-443A-BE9A-A1CBC696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B31A-BC5A-4998-86CF-E6497C3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C22B-8B88-4763-AB53-A102EC9F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647B-7F48-4CF8-B65E-85F0A88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1D529-3359-4B26-94B9-B167CA67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C27E-BDEA-4E1E-8985-D09DD632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5323A-7411-4946-93B9-24388D0A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9246-63F2-461F-AC8A-EF8114DB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EA77-DF3D-4AF4-A446-D5BA052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8F29B-BB97-4E65-BC9C-4871D8F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33E-E0D3-4F0A-9D72-2EA341C2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C890-60CE-4F48-94AB-BCC624D00C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75C7-6580-414F-87E0-BA1832910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3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8E90-8F37-46C8-ABED-6C7DEB0AC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BE8-AC35-4E98-AEFF-384500242A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ftr" idx="4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E64-E370-4315-8FF4-BB0CB581F9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E4C2-DB94-461E-A1BA-DB5057102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1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82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02B9-F276-4C86-874A-8C1A1CA5E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E143-797B-4090-9292-A5D83D77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33F-60F0-4816-8DB4-D3FFADE158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BBDC-D9E6-4C5B-9D71-C8A131A3EC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3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4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4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5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67F-DDE4-4436-9FE7-831181A9AD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2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2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3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4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4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4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5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E021-3B88-4B62-835A-5FEC5E3C3B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916-01B6-4F7E-B705-C366B02BD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5F6-D050-487C-B825-D80EC7A3D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61BA-A2F5-4C5F-A537-F9D272890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3;&#1100;&#1084;&#1077;&#1082;&#1089;&#1082;&#1086;&#1077;_&#1087;&#1080;&#1089;&#1100;&#1084;&#1086;" TargetMode="External"/><Relationship Id="rId2" Type="http://schemas.openxmlformats.org/officeDocument/2006/relationships/hyperlink" Target="http://ru.wikipedia.org/wiki/&#1069;&#1087;&#1080;&#1086;&#1083;&#1100;&#1084;&#1077;&#1082;&#1080;" TargetMode="External"/><Relationship Id="rId3" Type="http://schemas.openxmlformats.org/officeDocument/2006/relationships/hyperlink" Target="http://ru.wikipedia.org/wiki/&#1069;&#1087;&#1080;&#1086;&#1083;&#1100;&#1084;&#1077;&#1082;&#1089;&#1082;&#1086;&#1077;_&#1087;&#1080;&#1089;&#1100;&#1084;&#1086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7;&#1088;&#1072;&#1084;&#1080;&#1082;&#1072;" TargetMode="External"/><Relationship Id="rId2" Type="http://schemas.openxmlformats.org/officeDocument/2006/relationships/hyperlink" Target="http://ru.wikipedia.org/w/index.php?title=&#1064;&#1090;&#1091;&#1082;&#1086;&#1074;&#1099;&#1081;_&#1088;&#1077;&#1083;&#1100;&#1077;&#1092;&amp;action=edit&amp;redlink=1" TargetMode="External"/><Relationship Id="rId3" Type="http://schemas.openxmlformats.org/officeDocument/2006/relationships/hyperlink" Target="http://ru.wikipedia.org/w/index.php?title=&#1064;&#1090;&#1091;&#1082;&#1086;&#1074;&#1099;&#1081;_&#1088;&#1077;&#1083;&#1100;&#1077;&#1092;&amp;action=edit&amp;redlink=1" TargetMode="External"/><Relationship Id="rId4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Что представляла собой письменность Майя?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скова Юл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ница 9 «В» класс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.Сыктывка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5464080" y="1600200"/>
            <a:ext cx="24051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ь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знакомиться с письменностью Май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знакомиться с происхождением пись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казать структуру письменности Май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учить принцип письмен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исхождение пись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 недавнего времени считалось, что майя могли заимствовать некоторые элементы, а возможно и основу своей письменности от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ольмек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 или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пиольмек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днако, согласно новым сведениям,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эпиольмекское письмо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, считавшееся возможным прямым предком письма майя, на несколько веков младше, и, возможно, является его прямым потомком. Другие месоамериканские культуры того времени разработали собственные системы письма, имевшие много общих черт с ольмекской, в частности — двадцатиричную систему счисления, обозначавшуюся системой точек и чер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4"/>
          <a:stretch/>
        </p:blipFill>
        <p:spPr>
          <a:xfrm>
            <a:off x="6040440" y="2017800"/>
            <a:ext cx="2017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исьменность Май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уктура письменности Май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Иероглифы Майя чаще всего записывались в колонках по два. В каждой они считались слева направо, сверху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3654360" y="2022480"/>
            <a:ext cx="183528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ывод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ость майя представляет собой хорошо разработанную систему символов, которые кропотливо вырисовывались на 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кера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тенах, записывались в бумажных кодексах, вырезались в дереве или камне или выполнялись в технике 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штукового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 рельеф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резанные или отлитые символы раскрашивались, однако краска в большинстве случаев не дошла до наших дней. Всего доступно около 7000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u.wikipedia.org/wiki/Письмо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.fund-intent.ru/science/scns173.s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02:52Z</dcterms:created>
  <dc:creator>07100</dc:creator>
  <dc:description/>
  <dc:language>en-US</dc:language>
  <cp:lastModifiedBy>07100</cp:lastModifiedBy>
  <dcterms:modified xsi:type="dcterms:W3CDTF">2009-11-25T13:08:32Z</dcterms:modified>
  <cp:revision>5</cp:revision>
  <dc:subject/>
  <dc:title>Что представляла собой письменность Майя?</dc:title>
</cp:coreProperties>
</file>